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0A88-4069-40BA-BB56-6A4E9AA17A49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32BF-8506-4CB4-B399-3954CFD5348E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dgave 1: Globalmenuen er reserveret til DK-Clarins on-site data og værktø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Data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data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Værktøj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værktøj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Login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DKClarin 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Demo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Hjælp? Guides, manualer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Ressourcer via DKClarins findes i undersider; kun de nyeste (eller mest brugte? Eller ?) ses på forsid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ndersider med beskrivelser skal vedligeholdes af ressource-ejeren.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20F0-AFFB-4E80-A680-274BEDFA932C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dgave 1: Globalmenuen er reserveret til DK-Clarins on-site data og værktø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Data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data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Værktøj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værktøj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Login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DKClarin 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Demo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Hjælp? Guides, manualer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Ressourcer via DKClarins findes i undersider; kun de nyeste (eller mest brugte? Eller ?) ses på forsid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ndersider med beskrivelser skal vedligeholdes af ressource-ejeren.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975B-D625-489B-A0AC-731132261BC0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dgave 1: Globalmenuen er reserveret til DK-Clarins on-site data og værktø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Data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data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Værktøj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værktøj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Login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DKClarin 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Demo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Hjælp? Guides, manualer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Ressourcer via DKClarins findes i undersider; kun de nyeste (eller mest brugte? Eller ?) ses på forsid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ndersider med beskrivelser skal vedligeholdes af ressource-ejeren.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54A8-16AB-40C9-A311-B9EF6C710FDD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dgave 1: Globalmenuen er reserveret til DK-Clarins on-site data og værktø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Data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data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Værktøj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værktøj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Login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DKClarin 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Demo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Hjælp? Guides, manualer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Ressourcer via DKClarins findes i undersider; kun de nyeste (eller mest brugte? Eller ?) ses på forsid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ndersider med beskrivelser skal vedligeholdes af ressource-ejeren.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914-FFE6-4CF6-8655-20AA61AC7940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dgave 1: Globalmenuen er reserveret til DK-Clarins on-site data og værktø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Data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data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Værktøj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side om værktøjtyper til rådighed i DKClar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Menupunkt ’Login’ </a:t>
            </a:r>
            <a:r>
              <a:rPr b="0" lang="da-DK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 DKClarin 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Demo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Skal der være Hjælp? Guides, manualer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Ressourcer via DKClarins findes i undersider; kun de nyeste (eller mest brugte? Eller ?) ses på forsid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Verdana"/>
              </a:rPr>
              <a:t>Undersider med beskrivelser skal vedligeholdes af ressource-ejeren. Meta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Rækkefølgen kan evt. ændres for format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C5D-C676-445F-9703-71E8E57B8874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C85-5490-4264-9B5F-90680721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2ED-6B89-477E-B208-496E77A8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C14-A728-4331-813C-11EAA743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0E7-8851-4F34-87A8-0FCF2012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4B1-CE94-4791-A8D2-510ED34D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302-B3AA-4B4E-99F5-D7735C17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978-4E59-462B-A0D6-CAF00665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6DB-A16A-477F-BD1A-6F6E55F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D6F-5023-41B3-90B3-875B123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3A7-60AA-4953-94A1-31D435B5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4C8-718E-4D0B-86E6-1C037F72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392-2930-4702-90EE-6C787667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F1E-A071-4F74-907C-78E65C54BF0A}" type="datetime">
              <a:rPr b="0" lang="da-DK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1FDA-274F-412C-BBCB-7AA7B3CF69D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1371600"/>
            <a:ext cx="1752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57200" y="6324480"/>
            <a:ext cx="8153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09480" y="640080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oter med basic Clarin info (e-mail, adresse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9360" y="2814480"/>
            <a:ext cx="1648440" cy="621000"/>
            <a:chOff x="9360" y="2814480"/>
            <a:chExt cx="1648440" cy="621000"/>
          </a:xfrm>
        </p:grpSpPr>
        <p:sp>
          <p:nvSpPr>
            <p:cNvPr id="53" name="Rectangle 8"/>
            <p:cNvSpPr/>
            <p:nvPr/>
          </p:nvSpPr>
          <p:spPr>
            <a:xfrm>
              <a:off x="9360" y="2814480"/>
              <a:ext cx="16480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1657440" y="2814480"/>
              <a:ext cx="3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762120" y="38088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803160" y="19692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imes New Roman"/>
              </a:rPr>
              <a:t>DKClarin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tencil"/>
              </a:rPr>
              <a:t>Forside Mockup -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5791320" y="533520"/>
            <a:ext cx="26668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6095880" y="685800"/>
            <a:ext cx="1752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på webs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8001000" y="685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533520" y="2428920"/>
            <a:ext cx="1600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jælp / 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og p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457200" y="2286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457200" y="1447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Nyheds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33520" y="4022640"/>
            <a:ext cx="16002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ast DK-Clarin administrationsmen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m DK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icen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Ad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Projek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EU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5786280" y="2000160"/>
            <a:ext cx="28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dsholder til sidefod 30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dsholder til diasnumm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254-1868-4100-8CA3-D12D5A7F83D8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ktangel 33"/>
          <p:cNvSpPr/>
          <p:nvPr/>
        </p:nvSpPr>
        <p:spPr>
          <a:xfrm>
            <a:off x="778680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ktangel 34"/>
          <p:cNvSpPr/>
          <p:nvPr/>
        </p:nvSpPr>
        <p:spPr>
          <a:xfrm>
            <a:off x="6929280" y="1428840"/>
            <a:ext cx="866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ktangel 35"/>
          <p:cNvSpPr/>
          <p:nvPr/>
        </p:nvSpPr>
        <p:spPr>
          <a:xfrm>
            <a:off x="6000840" y="1428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ktangel 36"/>
          <p:cNvSpPr/>
          <p:nvPr/>
        </p:nvSpPr>
        <p:spPr>
          <a:xfrm>
            <a:off x="514368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ktangel 37"/>
          <p:cNvSpPr/>
          <p:nvPr/>
        </p:nvSpPr>
        <p:spPr>
          <a:xfrm>
            <a:off x="4286160" y="1428840"/>
            <a:ext cx="8575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ktangel 38"/>
          <p:cNvSpPr/>
          <p:nvPr/>
        </p:nvSpPr>
        <p:spPr>
          <a:xfrm>
            <a:off x="3286080" y="1428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ktangel 39"/>
          <p:cNvSpPr/>
          <p:nvPr/>
        </p:nvSpPr>
        <p:spPr>
          <a:xfrm>
            <a:off x="242892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ktangel 42"/>
          <p:cNvSpPr/>
          <p:nvPr/>
        </p:nvSpPr>
        <p:spPr>
          <a:xfrm>
            <a:off x="2357280" y="2071800"/>
            <a:ext cx="6286680" cy="41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elkommen til DK-Cla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DK-Clarin er en grænseflade til dansk humanistisk forskning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Du finder her beskrivelse af værktøjer og de ressourcer forskerne arbejder med i deres forsk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Du kan via denne side søge i beskrivelse af DK-Clarin ressourcer. Du kan under de forskellige typer, læse en mere udførligt beskrivelse af de forskellige typer af ressourcer, og om indholdet i DK-Clarin.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Hvis du er forsker, har du mulighed for at anvende DK-Clarin’s repository, se yderligere informationer under ad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57200" y="1371600"/>
            <a:ext cx="1752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" y="6324480"/>
            <a:ext cx="8153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09480" y="640080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oter med basic Clarin info (e-mail, adresse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9360" y="2814480"/>
            <a:ext cx="1648440" cy="621000"/>
            <a:chOff x="9360" y="2814480"/>
            <a:chExt cx="1648440" cy="621000"/>
          </a:xfrm>
        </p:grpSpPr>
        <p:sp>
          <p:nvSpPr>
            <p:cNvPr id="80" name="Rectangle 8"/>
            <p:cNvSpPr/>
            <p:nvPr/>
          </p:nvSpPr>
          <p:spPr>
            <a:xfrm>
              <a:off x="9360" y="2814480"/>
              <a:ext cx="16480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9"/>
            <p:cNvSpPr/>
            <p:nvPr/>
          </p:nvSpPr>
          <p:spPr>
            <a:xfrm>
              <a:off x="1657440" y="2814480"/>
              <a:ext cx="3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11"/>
          <p:cNvSpPr/>
          <p:nvPr/>
        </p:nvSpPr>
        <p:spPr>
          <a:xfrm>
            <a:off x="762120" y="38088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803160" y="19692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imes New Roman"/>
              </a:rPr>
              <a:t>DKClarin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tencil"/>
              </a:rPr>
              <a:t>Forside Mockup -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5791320" y="533520"/>
            <a:ext cx="26668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6095880" y="685800"/>
            <a:ext cx="1752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på webs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8001000" y="685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533520" y="2428920"/>
            <a:ext cx="1600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jælp / 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og p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457200" y="2286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57200" y="1447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Nyheds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533520" y="4022640"/>
            <a:ext cx="16002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ast DK-Clarin administrationsmen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m DK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icen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Ad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Projek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EU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7"/>
          <p:cNvSpPr/>
          <p:nvPr/>
        </p:nvSpPr>
        <p:spPr>
          <a:xfrm>
            <a:off x="5786280" y="2000160"/>
            <a:ext cx="28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dsholder til sidefod 30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dsholder til diasnumm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932A-54CF-4C43-8F7C-2C0C3A1E6DBD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ktangel 33"/>
          <p:cNvSpPr/>
          <p:nvPr/>
        </p:nvSpPr>
        <p:spPr>
          <a:xfrm>
            <a:off x="778680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ktangel 34"/>
          <p:cNvSpPr/>
          <p:nvPr/>
        </p:nvSpPr>
        <p:spPr>
          <a:xfrm>
            <a:off x="6929280" y="1428840"/>
            <a:ext cx="866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ktangel 35"/>
          <p:cNvSpPr/>
          <p:nvPr/>
        </p:nvSpPr>
        <p:spPr>
          <a:xfrm>
            <a:off x="6000840" y="1428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ktangel 36"/>
          <p:cNvSpPr/>
          <p:nvPr/>
        </p:nvSpPr>
        <p:spPr>
          <a:xfrm>
            <a:off x="514368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ktangel 37"/>
          <p:cNvSpPr/>
          <p:nvPr/>
        </p:nvSpPr>
        <p:spPr>
          <a:xfrm>
            <a:off x="4286160" y="1428840"/>
            <a:ext cx="8575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ktangel 38"/>
          <p:cNvSpPr/>
          <p:nvPr/>
        </p:nvSpPr>
        <p:spPr>
          <a:xfrm>
            <a:off x="3286080" y="1428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ktangel 39"/>
          <p:cNvSpPr/>
          <p:nvPr/>
        </p:nvSpPr>
        <p:spPr>
          <a:xfrm>
            <a:off x="242892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ktangel 42"/>
          <p:cNvSpPr/>
          <p:nvPr/>
        </p:nvSpPr>
        <p:spPr>
          <a:xfrm>
            <a:off x="2428920" y="1928880"/>
            <a:ext cx="6215040" cy="4214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429160" y="2357280"/>
            <a:ext cx="2667240" cy="57168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Kategorier i drop-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 flipV="1">
            <a:off x="2643120" y="2357280"/>
            <a:ext cx="2286000" cy="571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2857680" y="2500200"/>
            <a:ext cx="14284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i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 flipH="1">
            <a:off x="4361760" y="2500200"/>
            <a:ext cx="39852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ktangel 45"/>
          <p:cNvSpPr/>
          <p:nvPr/>
        </p:nvSpPr>
        <p:spPr>
          <a:xfrm>
            <a:off x="535788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Alle ressou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Bill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orm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ek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 &amp; 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ktangel 46"/>
          <p:cNvSpPr/>
          <p:nvPr/>
        </p:nvSpPr>
        <p:spPr>
          <a:xfrm>
            <a:off x="264312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Søge termer i kvik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udenlandsk accent  i alle metadatafe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ktangel 47"/>
          <p:cNvSpPr/>
          <p:nvPr/>
        </p:nvSpPr>
        <p:spPr>
          <a:xfrm>
            <a:off x="2643120" y="2143080"/>
            <a:ext cx="9144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Avanceret 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ktangel 49"/>
          <p:cNvSpPr/>
          <p:nvPr/>
        </p:nvSpPr>
        <p:spPr>
          <a:xfrm>
            <a:off x="3714840" y="2143080"/>
            <a:ext cx="121428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ffffff"/>
                </a:solidFill>
                <a:latin typeface="Calibri"/>
              </a:rPr>
              <a:t>Brug * som wild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371600"/>
            <a:ext cx="1752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6324480"/>
            <a:ext cx="8153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640080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oter med basic Clarin info (e-mail, adresse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9360" y="2814480"/>
            <a:ext cx="1648440" cy="621000"/>
            <a:chOff x="9360" y="2814480"/>
            <a:chExt cx="1648440" cy="621000"/>
          </a:xfrm>
        </p:grpSpPr>
        <p:sp>
          <p:nvSpPr>
            <p:cNvPr id="115" name="Rectangle 8"/>
            <p:cNvSpPr/>
            <p:nvPr/>
          </p:nvSpPr>
          <p:spPr>
            <a:xfrm>
              <a:off x="9360" y="2814480"/>
              <a:ext cx="16480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1657440" y="2814480"/>
              <a:ext cx="3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1"/>
          <p:cNvSpPr/>
          <p:nvPr/>
        </p:nvSpPr>
        <p:spPr>
          <a:xfrm>
            <a:off x="762120" y="38088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03160" y="19692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imes New Roman"/>
              </a:rPr>
              <a:t>DKClarin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tencil"/>
              </a:rPr>
              <a:t>Forside Mockup -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5791320" y="533520"/>
            <a:ext cx="26668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95880" y="685800"/>
            <a:ext cx="1752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på webs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8001000" y="685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533520" y="2428920"/>
            <a:ext cx="1600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jælp / 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og p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457200" y="2286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457200" y="1447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Nyheds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533520" y="4022640"/>
            <a:ext cx="16002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ast DK-Clarin administrationsmen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m DK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icen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Ad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Projek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EU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786280" y="2000160"/>
            <a:ext cx="28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dsholder til sidefod 30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dsholder til diasnumm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C61-AA60-4227-BFFF-A5F20DB9C48E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ktangel 33"/>
          <p:cNvSpPr/>
          <p:nvPr/>
        </p:nvSpPr>
        <p:spPr>
          <a:xfrm>
            <a:off x="778680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ktangel 34"/>
          <p:cNvSpPr/>
          <p:nvPr/>
        </p:nvSpPr>
        <p:spPr>
          <a:xfrm>
            <a:off x="6929280" y="1428840"/>
            <a:ext cx="866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ktangel 35"/>
          <p:cNvSpPr/>
          <p:nvPr/>
        </p:nvSpPr>
        <p:spPr>
          <a:xfrm>
            <a:off x="6000840" y="1428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ktangel 36"/>
          <p:cNvSpPr/>
          <p:nvPr/>
        </p:nvSpPr>
        <p:spPr>
          <a:xfrm>
            <a:off x="514368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ktangel 37"/>
          <p:cNvSpPr/>
          <p:nvPr/>
        </p:nvSpPr>
        <p:spPr>
          <a:xfrm>
            <a:off x="4286160" y="1428840"/>
            <a:ext cx="8575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ktangel 38"/>
          <p:cNvSpPr/>
          <p:nvPr/>
        </p:nvSpPr>
        <p:spPr>
          <a:xfrm>
            <a:off x="3286080" y="1428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ktangel 39"/>
          <p:cNvSpPr/>
          <p:nvPr/>
        </p:nvSpPr>
        <p:spPr>
          <a:xfrm>
            <a:off x="242892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ktangel 42"/>
          <p:cNvSpPr/>
          <p:nvPr/>
        </p:nvSpPr>
        <p:spPr>
          <a:xfrm>
            <a:off x="2428920" y="1928880"/>
            <a:ext cx="6215040" cy="41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429160" y="2357280"/>
            <a:ext cx="2667240" cy="57168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Kategorier i drop -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 flipV="1">
            <a:off x="2643120" y="2357280"/>
            <a:ext cx="2286000" cy="571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2857680" y="2500200"/>
            <a:ext cx="14284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i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 flipH="1">
            <a:off x="4361760" y="2500200"/>
            <a:ext cx="39852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ktangel 45"/>
          <p:cNvSpPr/>
          <p:nvPr/>
        </p:nvSpPr>
        <p:spPr>
          <a:xfrm>
            <a:off x="535788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Alle ressou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Bill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orm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ek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 &amp; 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ktangel 46"/>
          <p:cNvSpPr/>
          <p:nvPr/>
        </p:nvSpPr>
        <p:spPr>
          <a:xfrm>
            <a:off x="264312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Søge termer i kvik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udenlandsk accent i alle metadatafe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Resultater fra alle formater er 5 h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ktangel 47"/>
          <p:cNvSpPr/>
          <p:nvPr/>
        </p:nvSpPr>
        <p:spPr>
          <a:xfrm>
            <a:off x="2643120" y="2143080"/>
            <a:ext cx="9144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Avanceret 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Højre klammeparentes 48"/>
          <p:cNvSpPr/>
          <p:nvPr/>
        </p:nvSpPr>
        <p:spPr>
          <a:xfrm>
            <a:off x="3929040" y="3000240"/>
            <a:ext cx="214200" cy="9144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14400"/>
              <a:gd name="textAreaBottom" fmla="*/ 909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16200" y="10800"/>
                  <a:pt x="21600" y="10800"/>
                </a:cubicBezTo>
                <a:cubicBezTo>
                  <a:pt x="162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ktangel 50"/>
          <p:cNvSpPr/>
          <p:nvPr/>
        </p:nvSpPr>
        <p:spPr>
          <a:xfrm>
            <a:off x="3714840" y="2143080"/>
            <a:ext cx="121428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ffffff"/>
                </a:solidFill>
                <a:latin typeface="Calibri"/>
              </a:rPr>
              <a:t>Brug * som wild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1371600"/>
            <a:ext cx="1752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57200" y="6324480"/>
            <a:ext cx="8153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09480" y="640080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oter med basic Clarin info (e-mail, adresse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9360" y="2814480"/>
            <a:ext cx="1648440" cy="621000"/>
            <a:chOff x="9360" y="2814480"/>
            <a:chExt cx="1648440" cy="621000"/>
          </a:xfrm>
        </p:grpSpPr>
        <p:sp>
          <p:nvSpPr>
            <p:cNvPr id="151" name="Rectangle 8"/>
            <p:cNvSpPr/>
            <p:nvPr/>
          </p:nvSpPr>
          <p:spPr>
            <a:xfrm>
              <a:off x="9360" y="2814480"/>
              <a:ext cx="16480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1657440" y="2814480"/>
              <a:ext cx="3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762120" y="38088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803160" y="19692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imes New Roman"/>
              </a:rPr>
              <a:t>DKClarin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tencil"/>
              </a:rPr>
              <a:t>Forside Mockup -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791320" y="533520"/>
            <a:ext cx="26668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6095880" y="685800"/>
            <a:ext cx="1752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på webs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8001000" y="685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533520" y="2428920"/>
            <a:ext cx="1600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jælp / 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og p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457200" y="2286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457200" y="1447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Nyheds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533520" y="4022640"/>
            <a:ext cx="16002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ast DK-Clarin administrationsmen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m DK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icen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Ad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Projek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EU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5786280" y="2000160"/>
            <a:ext cx="28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dsholder til sidefod 30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dsholder til diasnumm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B6BD-91BD-4CD1-BF65-908A10CBEB42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ktangel 33"/>
          <p:cNvSpPr/>
          <p:nvPr/>
        </p:nvSpPr>
        <p:spPr>
          <a:xfrm>
            <a:off x="778680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ktangel 34"/>
          <p:cNvSpPr/>
          <p:nvPr/>
        </p:nvSpPr>
        <p:spPr>
          <a:xfrm>
            <a:off x="6929280" y="1428840"/>
            <a:ext cx="866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ktangel 35"/>
          <p:cNvSpPr/>
          <p:nvPr/>
        </p:nvSpPr>
        <p:spPr>
          <a:xfrm>
            <a:off x="6000840" y="1428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ktangel 36"/>
          <p:cNvSpPr/>
          <p:nvPr/>
        </p:nvSpPr>
        <p:spPr>
          <a:xfrm>
            <a:off x="514368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ktangel 37"/>
          <p:cNvSpPr/>
          <p:nvPr/>
        </p:nvSpPr>
        <p:spPr>
          <a:xfrm>
            <a:off x="4286160" y="1428840"/>
            <a:ext cx="8575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ktangel 38"/>
          <p:cNvSpPr/>
          <p:nvPr/>
        </p:nvSpPr>
        <p:spPr>
          <a:xfrm>
            <a:off x="3286080" y="1428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ktangel 39"/>
          <p:cNvSpPr/>
          <p:nvPr/>
        </p:nvSpPr>
        <p:spPr>
          <a:xfrm>
            <a:off x="242892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ktangel 42"/>
          <p:cNvSpPr/>
          <p:nvPr/>
        </p:nvSpPr>
        <p:spPr>
          <a:xfrm>
            <a:off x="2428920" y="1928880"/>
            <a:ext cx="6215040" cy="41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429160" y="2357280"/>
            <a:ext cx="2667240" cy="57168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Kategorier i drop -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 flipV="1">
            <a:off x="2643120" y="2357280"/>
            <a:ext cx="2286000" cy="571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2857680" y="2500200"/>
            <a:ext cx="14284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i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 flipH="1">
            <a:off x="4361760" y="2500200"/>
            <a:ext cx="39852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45"/>
          <p:cNvSpPr/>
          <p:nvPr/>
        </p:nvSpPr>
        <p:spPr>
          <a:xfrm>
            <a:off x="535788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Alle ressou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Bill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orm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ek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 &amp; 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ktangel 46"/>
          <p:cNvSpPr/>
          <p:nvPr/>
        </p:nvSpPr>
        <p:spPr>
          <a:xfrm>
            <a:off x="264312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Søge termer i kvik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udenlandsk accent  i alle metadatafe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Resultater for søgning i  alle formater er 5 h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s result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lg vis format, sorter efter relevans, ny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alibri"/>
              </a:rPr>
              <a:t>Skal en side ind her med resultat va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ktangel 47"/>
          <p:cNvSpPr/>
          <p:nvPr/>
        </p:nvSpPr>
        <p:spPr>
          <a:xfrm>
            <a:off x="2643120" y="2143080"/>
            <a:ext cx="9144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Avanceret 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Højre klammeparentes 48"/>
          <p:cNvSpPr/>
          <p:nvPr/>
        </p:nvSpPr>
        <p:spPr>
          <a:xfrm>
            <a:off x="3929040" y="3000240"/>
            <a:ext cx="214200" cy="9144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14400"/>
              <a:gd name="textAreaBottom" fmla="*/ 909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16200" y="10800"/>
                  <a:pt x="21600" y="10800"/>
                </a:cubicBezTo>
                <a:cubicBezTo>
                  <a:pt x="162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ktangel 41"/>
          <p:cNvSpPr/>
          <p:nvPr/>
        </p:nvSpPr>
        <p:spPr>
          <a:xfrm>
            <a:off x="3714840" y="2143080"/>
            <a:ext cx="121428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ffffff"/>
                </a:solidFill>
                <a:latin typeface="Calibri"/>
              </a:rPr>
              <a:t>Brug * som wild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1371600"/>
            <a:ext cx="1752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57200" y="228600"/>
            <a:ext cx="8153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57200" y="6324480"/>
            <a:ext cx="8153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09480" y="6400800"/>
            <a:ext cx="769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Footer med basic Clarin info (e-mail, adresse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0"/>
          <p:cNvGrpSpPr/>
          <p:nvPr/>
        </p:nvGrpSpPr>
        <p:grpSpPr>
          <a:xfrm>
            <a:off x="9360" y="2814480"/>
            <a:ext cx="1648440" cy="621000"/>
            <a:chOff x="9360" y="2814480"/>
            <a:chExt cx="1648440" cy="621000"/>
          </a:xfrm>
        </p:grpSpPr>
        <p:sp>
          <p:nvSpPr>
            <p:cNvPr id="187" name="Rectangle 8"/>
            <p:cNvSpPr/>
            <p:nvPr/>
          </p:nvSpPr>
          <p:spPr>
            <a:xfrm>
              <a:off x="9360" y="2814480"/>
              <a:ext cx="16480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1657440" y="2814480"/>
              <a:ext cx="36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1"/>
          <p:cNvSpPr/>
          <p:nvPr/>
        </p:nvSpPr>
        <p:spPr>
          <a:xfrm>
            <a:off x="762120" y="38088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803160" y="196920"/>
            <a:ext cx="27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Times New Roman"/>
              </a:rPr>
              <a:t>DKClarin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Stencil"/>
              </a:rPr>
              <a:t>Forside Mockup -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5791320" y="533520"/>
            <a:ext cx="2666880" cy="609480"/>
          </a:xfrm>
          <a:prstGeom prst="rect">
            <a:avLst/>
          </a:prstGeom>
          <a:solidFill>
            <a:srgbClr val="4f81bd"/>
          </a:solidFill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095880" y="685800"/>
            <a:ext cx="1752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på webs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8001000" y="6858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33520" y="2428920"/>
            <a:ext cx="16002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jælp / 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og på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457200" y="2286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457200" y="144792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Nyheds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33520" y="4022640"/>
            <a:ext cx="160020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Fast DK-Clarin administrationsmen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m DK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Licen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Adg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Organis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Projek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EU-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5786280" y="2000160"/>
            <a:ext cx="28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dsholder til sidefod 30"/>
          <p:cNvSpPr/>
          <p:nvPr/>
        </p:nvSpPr>
        <p:spPr>
          <a:xfrm>
            <a:off x="314316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dsholder til diasnumm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4DDB-DFBC-40AB-BCD9-888BB65E65D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ktangel 33"/>
          <p:cNvSpPr/>
          <p:nvPr/>
        </p:nvSpPr>
        <p:spPr>
          <a:xfrm>
            <a:off x="778680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ktangel 34"/>
          <p:cNvSpPr/>
          <p:nvPr/>
        </p:nvSpPr>
        <p:spPr>
          <a:xfrm>
            <a:off x="6929280" y="1428840"/>
            <a:ext cx="8668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ktangel 35"/>
          <p:cNvSpPr/>
          <p:nvPr/>
        </p:nvSpPr>
        <p:spPr>
          <a:xfrm>
            <a:off x="6000840" y="1428840"/>
            <a:ext cx="9284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ktangel 36"/>
          <p:cNvSpPr/>
          <p:nvPr/>
        </p:nvSpPr>
        <p:spPr>
          <a:xfrm>
            <a:off x="514368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ktangel 37"/>
          <p:cNvSpPr/>
          <p:nvPr/>
        </p:nvSpPr>
        <p:spPr>
          <a:xfrm>
            <a:off x="4286160" y="1428840"/>
            <a:ext cx="8575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ktangel 38"/>
          <p:cNvSpPr/>
          <p:nvPr/>
        </p:nvSpPr>
        <p:spPr>
          <a:xfrm>
            <a:off x="3286080" y="1428840"/>
            <a:ext cx="1000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ktangel 39"/>
          <p:cNvSpPr/>
          <p:nvPr/>
        </p:nvSpPr>
        <p:spPr>
          <a:xfrm>
            <a:off x="2428920" y="1428840"/>
            <a:ext cx="8571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ktangel 42"/>
          <p:cNvSpPr/>
          <p:nvPr/>
        </p:nvSpPr>
        <p:spPr>
          <a:xfrm>
            <a:off x="2428920" y="1928880"/>
            <a:ext cx="6215040" cy="414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429160" y="2357280"/>
            <a:ext cx="2667240" cy="57168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Kategorier i drop -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 flipV="1">
            <a:off x="2643120" y="2357280"/>
            <a:ext cx="2286000" cy="571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857680" y="2500200"/>
            <a:ext cx="142848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Søgning i meta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 flipH="1">
            <a:off x="4361760" y="2500200"/>
            <a:ext cx="39852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ktangel 45"/>
          <p:cNvSpPr/>
          <p:nvPr/>
        </p:nvSpPr>
        <p:spPr>
          <a:xfrm>
            <a:off x="535788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Alle ressou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Bill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Form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ek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deo &amp; Ly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ktangel 46"/>
          <p:cNvSpPr/>
          <p:nvPr/>
        </p:nvSpPr>
        <p:spPr>
          <a:xfrm>
            <a:off x="2643120" y="3143160"/>
            <a:ext cx="2643120" cy="2857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Søge termer i kvik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udenlandsk accent  i alle metadatafe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Resultater for søgning i  alle formater er 5 h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s result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lg vis format, sorter efter relevans, ny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0000"/>
                </a:solidFill>
                <a:latin typeface="Calibri"/>
              </a:rPr>
              <a:t>Skal en side ind her med resultat valg /Ny søg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ktangel 47"/>
          <p:cNvSpPr/>
          <p:nvPr/>
        </p:nvSpPr>
        <p:spPr>
          <a:xfrm>
            <a:off x="2643120" y="2143080"/>
            <a:ext cx="91440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Avanceret 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Højre klammeparentes 48"/>
          <p:cNvSpPr/>
          <p:nvPr/>
        </p:nvSpPr>
        <p:spPr>
          <a:xfrm>
            <a:off x="3929040" y="3000240"/>
            <a:ext cx="214200" cy="9144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14400"/>
              <a:gd name="textAreaBottom" fmla="*/ 909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16200" y="10800"/>
                  <a:pt x="21600" y="10800"/>
                </a:cubicBezTo>
                <a:cubicBezTo>
                  <a:pt x="162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ktangel 41"/>
          <p:cNvSpPr/>
          <p:nvPr/>
        </p:nvSpPr>
        <p:spPr>
          <a:xfrm>
            <a:off x="3714840" y="2143080"/>
            <a:ext cx="121428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ffffff"/>
                </a:solidFill>
                <a:latin typeface="Calibri"/>
              </a:rPr>
              <a:t>Brug * som wild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alibri"/>
              </a:rPr>
              <a:t>DK-Clarin oversigtsform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500280" y="1500120"/>
          <a:ext cx="5112000" cy="4467240"/>
        </p:xfrm>
        <a:graphic>
          <a:graphicData uri="http://schemas.openxmlformats.org/drawingml/2006/table">
            <a:tbl>
              <a:tblPr/>
              <a:tblGrid>
                <a:gridCol w="428760"/>
                <a:gridCol w="1616040"/>
                <a:gridCol w="1022400"/>
                <a:gridCol w="1022400"/>
                <a:gridCol w="102240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el og udgave, å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hav: forfatter, editor, instit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k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 ad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 udenlands accent  2. udg. 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rbejdet  af ……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y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Fri ad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Åbent adga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yt til dansk tale med udenlandsk accent . Foreløbig udgave. 2009-xx-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Marta Kirilo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ænset adgang, Licens kræ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tit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enlandsk acc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geret 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navn Efternav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e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n adga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le ti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. x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yseret 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fatter Efternav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ærktøj til brug for lyd, interview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-service. Begrænset adgang, licens kræ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cri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sion.  ? 2000-xx-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øbenhavns Universitet. DGC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Eksempe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Ved klik på  beskrivelsen af ressourcen i hits, skal det være muligt  at downloade ressourcen eller at få en beskrivelse af adgangsforholdet for ressourcen i metadataformatet. Ressourcen downloades til egen pc’er hvis det er frit tilgængeligt. – Mouse overbeskrivels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Eks. hits nr. 2  Adgang:  Fri eller ”Åbent adgang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Det skal være muligt  ved klik på titel eller ophav at få vist metadataformatet  eller ISBD- formate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Dropdown / Rulle menu / Pop up menu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Det skal være muligt at sorterer oversigtsformatet på ressourcer i oversigt på ressourcetyper, adgangstyper, titel, udgave, år og ophav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dsholder til dato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877C-F1AE-4AA9-AB68-86F0277793E2}" type="datetime">
              <a:rPr b="0" lang="da-DK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dsholder til diasnumm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603D-3C6F-43B1-99F2-4DE43F13AB3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dsholder til sidefod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-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alibri"/>
              </a:rPr>
              <a:t>DK-CLARIN Visningsformat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alibri"/>
              </a:rPr>
              <a:t>Beskrivende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Titel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Lyt til dansk tale med udenlandsk accent : Marta Kirilovas undersøgel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Ophav: Forfatter / Editor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: Marta Kirilova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Udgivelsessted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Københav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Udgiver: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 Københavns Universitet,  Dialekt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Versioner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Foreløbige resultat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Publiceret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2009- xx-x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Beskrivelse af ressourcen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Undersøgelsesmetoder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Dialektologiske, sociolingvistisk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Interview, Fokusgrupper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Sprogforskere  vurderer stemmer på fire paramet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Undersøgelses områd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Geografisk områder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Land: Danmark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Region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Byer: Vinderup, Odder, Vissenbjerg, Næstved, Køge, København (DK kort??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Lokalområder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Undersøgelsesperiode:  2003-2004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Variabler: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Informanter:  16 (Stemme 1, Stemme 2, Stemme 3, Stemme 4, Stemme, 5 Stemme 6, Stemme 7, Stemme 8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Alder: 25-45 år, (28, 26, 31, 22, 27, 36, 39, 50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Køn: 8 k, 8 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Sociale klasser / Uddannelsesniveau: Videregående uddannelse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Sprog:  Dansk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Sprogniveau: Studentereksamen, Studieprøven (Tidligere danskprøve 2)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Modersmål: Islandsk, amerikansk-engelsk, tysk, italiensk, bulgarsk, polsk, kinesisk (mandarin), iransk (farsi)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Adgang til ressourcen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Frit tilgængeligt, (Kun  en del af undersøgelsen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Adgang via: http.// dialekt.dk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Rettigheder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Marta Kirilovas  (Københavns Universitet)  E-Maill: dgcss@hum.ku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Link til ressourcen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http://dscss.hum.ku.dk/undersogelseomraade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Ressourcetype: 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Lyd, Tale, Dialekt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Værktøjer</a:t>
            </a: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: Transcriber, Praat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Tidligere programmer eller værktøjer: CLAN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Formater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Tidligere formater: KUATEKS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Link til værktøjer / webservices: http://dgcss.hum.ku.dk/undersoegelsomraaed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900" spc="-1" strike="noStrike">
                <a:solidFill>
                  <a:srgbClr val="000000"/>
                </a:solidFill>
                <a:latin typeface="Calibri"/>
              </a:rPr>
              <a:t>Link til Clarin-DK- arkiv: www.clarin.dk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Calibri"/>
              </a:rPr>
              <a:t>Andet: ?????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t  eksempel på hvordan et DK-Clarin visnings format  kunne se ud  med en ressource fra http://www.dialekt.dk som eksemp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itel hentes fra metada-format fel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title +  (titel +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type : Ressource type: Ly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Submitted, DC. Date, DC. Issued:  Publicerings år, md, dato, udgave /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Language:  Spro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Format – Værktøj, Formater (tidligere formater), tidligere programmer eller værktøj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 License:  Adgang  /Licens, link til værktøjer, webservices, ressou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C.rights: Rettighed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FullName:  DC. Rights, DC publisher. DC Rigths Holders. - Forfatter/ editor, ophav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vt. Beskrivelse af ressourcen  - Fra hvilke felter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dsholder til dato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B40E-6AAC-4913-B6A1-DAB8FACE5C84}" type="datetime">
              <a:rPr b="0" lang="da-DK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dsholder til dias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05FB-DDC3-4E5E-A032-D67CB1A680E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dsholder til sidefod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-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alibri"/>
              </a:rPr>
              <a:t>DK-CLARIN Visnings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Calibri"/>
              </a:rPr>
              <a:t>Lyt til dansk tale med udenlandsk accent : Marta Kirilovas undersøgelse , [Taleressource] / Marta Kirilovas.  - København: Københavns Universitet,  Dialekt.dk, 2009-md-da?. – Foreløbige resultate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Calibri"/>
              </a:rPr>
              <a:t>(Note: Taleressource. Anvendte værktøjer: Transcriber, Praat. -  Formater: XXXX. –  Offentligt tilgængeligt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Et eksempel på hvordan det kunne se u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Eksempe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ISBD form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Bibliografiske oplysninger +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Calibri"/>
              </a:rPr>
              <a:t>Notefelt: Med kort beskrivelse af ressourcetype, værktøjer, formater og tilgængeligh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dsholder til dato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343-85BE-46FF-BD86-D4350719DEED}" type="datetime">
              <a:rPr b="0" lang="da-DK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dsholder til dias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DBA0-6287-4278-A6E7-CD671DEC6D37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dsholder til sidefod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-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08:20Z</dcterms:created>
  <dc:creator>kmiv</dc:creator>
  <dc:description/>
  <dc:language>en-US</dc:language>
  <cp:lastModifiedBy>kmiv</cp:lastModifiedBy>
  <dcterms:modified xsi:type="dcterms:W3CDTF">2009-08-18T12:26:01Z</dcterms:modified>
  <cp:revision>15</cp:revision>
  <dc:subject/>
  <dc:title>Dias nummer 1</dc:title>
</cp:coreProperties>
</file>